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B5B6ED-4961-4165-BC14-C8A9E8D5BE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39C53-747B-439F-ACAE-197E978FA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781691-5553-4CFB-A6AE-8196BB04B2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F895FE-7EB0-4225-A633-82DFF6C29D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89243D-3CF7-4D5D-ABB5-1CAFA7C41C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F9718C-A453-447A-8E4D-AB14B7827B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3355F2-6B16-45B3-A59E-87085935FB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D6526E-964F-4C83-9B5C-419069BF0D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9F8839-D183-4C2F-9295-48835D6752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F95FF7-B1D9-4C99-BCEA-34E4B3B5F5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2BEEE-BAD0-44C0-A759-1ABE8A09D4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F8FD6-D6A0-4A9E-9DBB-FD913FD40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B91060-7077-4710-BF57-A805A75E98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79FCEF-27E9-4FC8-B359-1F6A69B10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EF3981-C0C9-48C2-AD66-C8300FEACC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4B5980-0151-49F3-9935-C60453C042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4569FA-EB4C-4768-A5AF-92ADC7576D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CABD5-B0F9-420E-B4E0-87CD0EA11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F5930-CAEF-46B7-8F43-BA0DA9A81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30C89-7C5E-4DC3-BB5F-EC5139AE4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9A4D0-4CB5-4997-BB4F-7674AFCE9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C578D-E829-4750-BF88-89EC0F042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CAE85-83C1-45E5-B875-0AE2747E2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468DA-E426-4202-A3BE-CF17F3CCF9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8E554-CD3F-42B5-AFF1-6572CC9C9E8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C156E-3358-41B3-A11F-F608B596B5E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School Business Administration</a:t>
            </a: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trategies</a:t>
            </a:r>
            <a:endParaRPr b="0" lang="en-US" sz="4200" spc="-1" strike="noStrike">
              <a:solidFill>
                <a:srgbClr val="330033"/>
              </a:solidFill>
              <a:latin typeface="Times New Roman"/>
            </a:endParaRPr>
          </a:p>
        </p:txBody>
      </p:sp>
      <p:sp>
        <p:nvSpPr>
          <p:cNvPr id="11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expanded applications of cost-benefit analysi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and operate accountability systems for decentralized structur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cooperative relationships with empowered teachers, principals an staff</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st in the development of cost-effectiveness rationa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st in the description of the business implications of implementing alternative educational goals that compete for scarce resourc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ise policy makers on the adaptation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a system to describe and present fiscal accountability to the publi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Levels of Laws Guiding School Business Administration</a:t>
            </a:r>
            <a:endParaRPr b="0" lang="en-US" sz="3800" spc="-1" strike="noStrike">
              <a:solidFill>
                <a:srgbClr val="330033"/>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ten constitution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utes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dge-made law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ve la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Legal Concepts</a:t>
            </a:r>
            <a:endParaRPr b="0" lang="en-US" sz="4200" spc="-1" strike="noStrike">
              <a:solidFill>
                <a:srgbClr val="330033"/>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utes of the Board of Education</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actual authority</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act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titive bid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monie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system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rt and tort liability</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lict of interest</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ce and sex discrimination</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e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ASA Performance Goals</a:t>
            </a: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and maintain a positive and open learning environment to bring about the motivation an social integration of students and staf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strong local, state, and national support for educ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nd deliver an effective curriculum which expands the definitions of literacy, competency, and cultural integration to include advanced technologies, problem solving, critical thinking and communication skills, and cultural enrichment for all stud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nd implement effective models/modes of instructional delivery that makes the best use of time, staff, advanced technologies, community resources, and financial means to maximize student outco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programs of continuous improvement, including evaluation of both staff and program effectiveness as keys to student leaning and develop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illfully manage school system operations and facilities to enhance student lear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4 Dimensions of Governance Responsibilities</a:t>
            </a:r>
            <a:endParaRPr b="0" lang="en-US" sz="3800" spc="-1" strike="noStrike">
              <a:solidFill>
                <a:srgbClr val="330033"/>
              </a:solidFill>
              <a:latin typeface="Times New Roman"/>
            </a:endParaRPr>
          </a:p>
        </p:txBody>
      </p:sp>
      <p:sp>
        <p:nvSpPr>
          <p:cNvPr id="10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ting the visio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ng an infrastructur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ting standard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ocating for schoo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uct and make use of significant research as a basis for problem solving and program planning of all kin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cessary Skill Domains</a:t>
            </a:r>
            <a:endParaRPr b="0" lang="en-US" sz="4200" spc="-1" strike="noStrike">
              <a:solidFill>
                <a:srgbClr val="330033"/>
              </a:solidFill>
              <a:latin typeface="Times New Roman"/>
            </a:endParaRPr>
          </a:p>
        </p:txBody>
      </p:sp>
      <p:sp>
        <p:nvSpPr>
          <p:cNvPr id="13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v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ptual</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ersonal</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Duties of Superintendent</a:t>
            </a:r>
            <a:br>
              <a:rPr sz="3800"/>
            </a:br>
            <a:r>
              <a:rPr b="0" lang="en-US" sz="3800" spc="-1" strike="noStrike">
                <a:solidFill>
                  <a:srgbClr val="330033"/>
                </a:solidFill>
                <a:latin typeface="Times New Roman"/>
              </a:rPr>
              <a:t> According to LEAD</a:t>
            </a:r>
            <a:endParaRPr b="0" lang="en-US" sz="3800" spc="-1" strike="noStrike">
              <a:solidFill>
                <a:srgbClr val="330033"/>
              </a:solidFill>
              <a:latin typeface="Times New Roman"/>
            </a:endParaRPr>
          </a:p>
        </p:txBody>
      </p:sp>
      <p:sp>
        <p:nvSpPr>
          <p:cNvPr id="14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ster student growth and developm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ster equality of opportunity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ster a positive school climat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 school improvem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ster improvement of classroom instructio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 and manage personn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 district resourc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re/provide a safe and orderly environm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ster effective school-community relation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age in professional developm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e effectively to the Boar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ASA Standards</a:t>
            </a:r>
            <a:endParaRPr b="0" lang="en-US" sz="4200" spc="-1" strike="noStrike">
              <a:solidFill>
                <a:srgbClr val="330033"/>
              </a:solidFill>
              <a:latin typeface="Times New Roman"/>
            </a:endParaRPr>
          </a:p>
        </p:txBody>
      </p:sp>
      <p:sp>
        <p:nvSpPr>
          <p:cNvPr id="14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and district cultur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cy and governanc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ons and community relation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al managem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iculum planning and developm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ctional managem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resource managem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s and ethics of leadershi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Effective and Effectiveness</a:t>
            </a:r>
            <a:br>
              <a:rPr sz="3800"/>
            </a:br>
            <a:r>
              <a:rPr b="0" lang="en-US" sz="3800" spc="-1" strike="noStrike">
                <a:solidFill>
                  <a:srgbClr val="330033"/>
                </a:solidFill>
                <a:latin typeface="Times New Roman"/>
              </a:rPr>
              <a:t>Ratios</a:t>
            </a:r>
            <a:endParaRPr b="0" lang="en-US" sz="3800" spc="-1" strike="noStrike">
              <a:solidFill>
                <a:srgbClr val="330033"/>
              </a:solidFill>
              <a:latin typeface="Times New Roman"/>
            </a:endParaRPr>
          </a:p>
        </p:txBody>
      </p:sp>
      <p:sp>
        <p:nvSpPr>
          <p:cNvPr id="14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equals actual output divided by planned outpu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ness equals standard cost divided by actual co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IPP Model for Decision-Making</a:t>
            </a:r>
            <a:endParaRPr b="0" lang="en-US" sz="4200" spc="-1" strike="noStrike">
              <a:solidFill>
                <a:srgbClr val="330033"/>
              </a:solidFill>
              <a:latin typeface="Times New Roman"/>
            </a:endParaRPr>
          </a:p>
        </p:txBody>
      </p:sp>
      <p:sp>
        <p:nvSpPr>
          <p:cNvPr id="14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xt evaluatio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put evaluatio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evaluatio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 evalu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btaining Feedback</a:t>
            </a:r>
            <a:endParaRPr b="0" lang="en-US" sz="4200" spc="-1" strike="noStrike">
              <a:solidFill>
                <a:srgbClr val="330033"/>
              </a:solidFill>
              <a:latin typeface="Times New Roman"/>
            </a:endParaRPr>
          </a:p>
        </p:txBody>
      </p:sp>
      <p:sp>
        <p:nvSpPr>
          <p:cNvPr id="15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advisory committe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key communicator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ite taxpayers to lunch</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en to what is said at meetings of service group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e wallet-size calendars to resident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people’s ideas on ta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en to local call-in radio</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a question session at public meeting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er guidance and administrative servic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a community resource fil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your receptionist keep a list of questions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church bulleti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a speaker’s bureau</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questionnaires and newsletters to public</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questions ask by reporters at news conferenc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candid with civic leader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e senior populatio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open foru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SBO’s Code</a:t>
            </a:r>
            <a:endParaRPr b="0" lang="en-US" sz="4200" spc="-1" strike="noStrike">
              <a:solidFill>
                <a:srgbClr val="330033"/>
              </a:solidFill>
              <a:latin typeface="Times New Roman"/>
            </a:endParaRPr>
          </a:p>
        </p:txBody>
      </p:sp>
      <p:sp>
        <p:nvSpPr>
          <p:cNvPr id="10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knowledge that the schools belong to the public</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policies and administrative roles and responsibiliti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sue appropriate measures to correct laws, policies and regulations that are not consistent with sound educational goal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ret the policies and practices of the district to subordinates and to the commun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Personnel Planning</a:t>
            </a:r>
            <a:br>
              <a:rPr sz="3800"/>
            </a:br>
            <a:r>
              <a:rPr b="0" lang="en-US" sz="3800" spc="-1" strike="noStrike">
                <a:solidFill>
                  <a:srgbClr val="330033"/>
                </a:solidFill>
                <a:latin typeface="Times New Roman"/>
              </a:rPr>
              <a:t>and Recruitment</a:t>
            </a:r>
            <a:endParaRPr b="0" lang="en-US" sz="3800" spc="-1" strike="noStrike">
              <a:solidFill>
                <a:srgbClr val="330033"/>
              </a:solidFill>
              <a:latin typeface="Times New Roman"/>
            </a:endParaRPr>
          </a:p>
        </p:txBody>
      </p:sp>
      <p:sp>
        <p:nvSpPr>
          <p:cNvPr id="15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 analysis</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ily Leave</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ricans with Disabilities</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 descriptions</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ion process</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 orientation</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 training</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loyment development</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ivation</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ion</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ion</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ipline</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inations</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irem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urchasing</a:t>
            </a:r>
            <a:endParaRPr b="0" lang="en-US" sz="4200" spc="-1" strike="noStrike">
              <a:solidFill>
                <a:srgbClr val="330033"/>
              </a:solidFill>
              <a:latin typeface="Times New Roman"/>
            </a:endParaRPr>
          </a:p>
        </p:txBody>
      </p:sp>
      <p:sp>
        <p:nvSpPr>
          <p:cNvPr id="15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mandated</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ly mandated</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aliz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Fundamental Objectives for a Purchasing Department</a:t>
            </a:r>
            <a:endParaRPr b="0" lang="en-US" sz="3800" spc="-1" strike="noStrike">
              <a:solidFill>
                <a:srgbClr val="330033"/>
              </a:solidFill>
              <a:latin typeface="Times New Roman"/>
            </a:endParaRPr>
          </a:p>
        </p:txBody>
      </p:sp>
      <p:sp>
        <p:nvSpPr>
          <p:cNvPr id="16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lan a program of educational materials and equipment procurement that will  optimize the educational output of the syste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maintain continuity of supply to support the educational program, with the minimum inventory consistent with the educational need, safety and economic advant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avoid duplication, waste, and obsolescence of materials and equip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maintain standards of quality in relation to suitability of u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acquire materials and equipment at the lowest cost consistent with quality and service requir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help the educational system maintain maximum instruction efficiency at all ti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urchasing Steps</a:t>
            </a:r>
            <a:endParaRPr b="0" lang="en-US" sz="4200" spc="-1" strike="noStrike">
              <a:solidFill>
                <a:srgbClr val="330033"/>
              </a:solidFill>
              <a:latin typeface="Times New Roman"/>
            </a:endParaRPr>
          </a:p>
        </p:txBody>
      </p:sp>
      <p:sp>
        <p:nvSpPr>
          <p:cNvPr id="17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sitio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ation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otations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dding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ypes of Maintenance</a:t>
            </a:r>
            <a:endParaRPr b="0" lang="en-US" sz="4200" spc="-1" strike="noStrike">
              <a:solidFill>
                <a:srgbClr val="330033"/>
              </a:solidFill>
              <a:latin typeface="Times New Roman"/>
            </a:endParaRPr>
          </a:p>
        </p:txBody>
      </p:sp>
      <p:sp>
        <p:nvSpPr>
          <p:cNvPr id="17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iv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iodic</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urring</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ergenc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School Business </a:t>
            </a:r>
            <a:br>
              <a:rPr sz="3800"/>
            </a:br>
            <a:r>
              <a:rPr b="0" lang="en-US" sz="3800" spc="-1" strike="noStrike">
                <a:solidFill>
                  <a:srgbClr val="330033"/>
                </a:solidFill>
                <a:latin typeface="Times New Roman"/>
              </a:rPr>
              <a:t>Administration Questions</a:t>
            </a:r>
            <a:endParaRPr b="0" lang="en-US" sz="3800" spc="-1" strike="noStrike">
              <a:solidFill>
                <a:srgbClr val="330033"/>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educational needs that have business implications?</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nature and cost of each feasible alternative to meet a given educational need?</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most effective means to provide an alternative?</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cost-effectiveness of each alternative?</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relative priority of each expendi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Energy and Resources</a:t>
            </a:r>
            <a:endParaRPr b="0" lang="en-US" sz="4200" spc="-1" strike="noStrike">
              <a:solidFill>
                <a:srgbClr val="330033"/>
              </a:solidFill>
              <a:latin typeface="Times New Roman"/>
            </a:endParaRPr>
          </a:p>
        </p:txBody>
      </p:sp>
      <p:sp>
        <p:nvSpPr>
          <p:cNvPr id="17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suppli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managem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upgrad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ng schem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reductio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upgra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Capital Asset Planning</a:t>
            </a:r>
            <a:br>
              <a:rPr sz="3800"/>
            </a:br>
            <a:r>
              <a:rPr b="0" lang="en-US" sz="3800" spc="-1" strike="noStrike">
                <a:solidFill>
                  <a:srgbClr val="330033"/>
                </a:solidFill>
                <a:latin typeface="Times New Roman"/>
              </a:rPr>
              <a:t>and Management</a:t>
            </a:r>
            <a:endParaRPr b="0" lang="en-US" sz="3800" spc="-1" strike="noStrike">
              <a:solidFill>
                <a:srgbClr val="330033"/>
              </a:solidFill>
              <a:latin typeface="Times New Roman"/>
            </a:endParaRPr>
          </a:p>
        </p:txBody>
      </p:sp>
      <p:sp>
        <p:nvSpPr>
          <p:cNvPr id="17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mprehensive Strategic Planning</a:t>
            </a:r>
            <a:endParaRPr b="0" lang="en-US" sz="4200" spc="-1" strike="noStrike">
              <a:solidFill>
                <a:srgbClr val="330033"/>
              </a:solidFill>
              <a:latin typeface="Times New Roman"/>
            </a:endParaRPr>
          </a:p>
        </p:txBody>
      </p:sp>
      <p:sp>
        <p:nvSpPr>
          <p:cNvPr id="18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of Procedur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ment of a shared vision</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ulation of goal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on of data</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and evaluation of alternative means of goal assessment</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ing of a master plan</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ment of goal achievement</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 of adjustments of master plan</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ssessment of goa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Key Participants</a:t>
            </a:r>
            <a:endParaRPr b="0" lang="en-US" sz="4200" spc="-1" strike="noStrike">
              <a:solidFill>
                <a:srgbClr val="330033"/>
              </a:solidFill>
              <a:latin typeface="Times New Roman"/>
            </a:endParaRPr>
          </a:p>
        </p:txBody>
      </p:sp>
      <p:sp>
        <p:nvSpPr>
          <p:cNvPr id="18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ef administrato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y planne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ulty and staff</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ing bod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ntext Analysis</a:t>
            </a:r>
            <a:endParaRPr b="0" lang="en-US" sz="4200" spc="-1" strike="noStrike">
              <a:solidFill>
                <a:srgbClr val="330033"/>
              </a:solidFill>
              <a:latin typeface="Times New Roman"/>
            </a:endParaRPr>
          </a:p>
        </p:txBody>
      </p:sp>
      <p:sp>
        <p:nvSpPr>
          <p:cNvPr id="18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graphic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cs and employm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using</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reatio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rdinate edu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Evaluation of Existing Facilities</a:t>
            </a:r>
            <a:endParaRPr b="0" lang="en-US" sz="4200" spc="-1" strike="noStrike">
              <a:solidFill>
                <a:srgbClr val="330033"/>
              </a:solidFill>
              <a:latin typeface="Times New Roman"/>
            </a:endParaRPr>
          </a:p>
        </p:txBody>
      </p:sp>
      <p:sp>
        <p:nvSpPr>
          <p:cNvPr id="18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and safet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vironm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adequac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erical adequa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Sequence of Steps </a:t>
            </a:r>
            <a:br>
              <a:rPr sz="3800"/>
            </a:br>
            <a:r>
              <a:rPr b="0" lang="en-US" sz="3800" spc="-1" strike="noStrike">
                <a:solidFill>
                  <a:srgbClr val="330033"/>
                </a:solidFill>
                <a:latin typeface="Times New Roman"/>
              </a:rPr>
              <a:t>in Construction</a:t>
            </a:r>
            <a:endParaRPr b="0" lang="en-US" sz="3800" spc="-1" strike="noStrike">
              <a:solidFill>
                <a:srgbClr val="330033"/>
              </a:solidFill>
              <a:latin typeface="Times New Roman"/>
            </a:endParaRPr>
          </a:p>
        </p:txBody>
      </p:sp>
      <p:sp>
        <p:nvSpPr>
          <p:cNvPr id="18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educational specification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rchitectural plans and specification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rchitectural plans and specification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icit competitive bid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d the contract</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the construction</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nd procure furniture and equipment</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ent and train faculty, staff, and student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cupy the facility</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uct a post-occupancy evalu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Educational Specifications</a:t>
            </a:r>
            <a:endParaRPr b="0" lang="en-US" sz="4200" spc="-1" strike="noStrike">
              <a:solidFill>
                <a:srgbClr val="330033"/>
              </a:solidFill>
              <a:latin typeface="Times New Roman"/>
            </a:endParaRPr>
          </a:p>
        </p:txBody>
      </p:sp>
      <p:sp>
        <p:nvSpPr>
          <p:cNvPr id="19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of tactical facility planning</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 of the basic program outlin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ation of quantitative requirement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ation of qualitative requirement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ation of the written docu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BA Should Provide</a:t>
            </a:r>
            <a:endParaRPr b="0" lang="en-US" sz="4200" spc="-1" strike="noStrike">
              <a:solidFill>
                <a:srgbClr val="330033"/>
              </a:solidFill>
              <a:latin typeface="Times New Roman"/>
            </a:endParaRPr>
          </a:p>
        </p:txBody>
      </p:sp>
      <p:sp>
        <p:nvSpPr>
          <p:cNvPr id="10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ructure in which qualified educational personnel identify and specify program need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 program specifications, services, and materials for these need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utility or cost-effectiveness analyse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cess for procuring or providing appropriate personnel, material , and equipment.</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priate performance and cost data for evaluation</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ations for the modification of present programs and policies or proposa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Business Administration Functions</a:t>
            </a:r>
            <a:endParaRPr b="0" lang="en-US" sz="4200" spc="-1" strike="noStrike">
              <a:solidFill>
                <a:srgbClr val="330033"/>
              </a:solidFill>
              <a:latin typeface="Times New Roman"/>
            </a:endParaRPr>
          </a:p>
        </p:txBody>
      </p:sp>
      <p:sp>
        <p:nvSpPr>
          <p:cNvPr id="10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dgeting and financial planning</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chasing an supply managem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t planning and constructio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community relation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nel managemen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ervice training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 and maintenance of pla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od servic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unting and reporting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processing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ntsmanship</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ice managem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al resources managem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services for the distri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ddressing Learning Theory</a:t>
            </a: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ivity of the leaning industry must be increased</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ter measure of educational costs and effectiveness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y is creating opportunities for cost-effective learning</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novation in any component of the system requires modification of the whole system</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al deregulation and decentralization are need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scale technological change in education requires an environment of choice and competition to provide the payoff for productive innovatio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on can lead to more successful implementation though better policy decisio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9T18:02:15Z</dcterms:created>
  <dc:creator>AEURY</dc:creator>
  <dc:description/>
  <dc:language>en-US</dc:language>
  <cp:lastModifiedBy>AEURY</cp:lastModifiedBy>
  <dcterms:modified xsi:type="dcterms:W3CDTF">2007-06-13T18:15:24Z</dcterms:modified>
  <cp:revision>5</cp:revision>
  <dc:subject/>
  <dc:title>School Business Administration</dc:title>
</cp:coreProperties>
</file>